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55F8-BC34-43CF-A55F-45C71D1BFF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9DD-09E7-4160-9AD4-52500026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597-9A41-45B6-8B1D-5E7F5E1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B2F-ACDD-4DE2-B572-C0FEB7F2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820-076A-4CFA-9860-9EE02C6C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32D-8F2A-4D3F-B935-F859316D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83D-6131-42F9-943D-2C851765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61A-B34C-4A96-A7CC-67C2DE57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B05-809A-4471-9EAC-4B9A3C95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612-E109-4416-8A2E-AB9B0532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8B3-F430-48CD-A484-D1F4311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9C7-D17D-4837-9514-BF384FD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9B1-7FF9-475D-88AF-D4DBEBC7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5B70-9C39-40C4-B913-AF57AD6D6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ая презент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урс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ые экономические отношения США и Канады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ША (по отношению к общей численности нас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на порядок выше, чем в других развитых государства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х, как например, Япония или скандинавские страны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рьезную нагрузку на бюджет оказывают также наркотики и СПИД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редставляют для США более серьезную проблему, чем для других развиты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четверты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храняется опасность глубокого экономическ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отя еще одна Великая депрессия вряд ли возможн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. А.В. Торкунов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ругман П., Обстфельд М. Международная экономика. Теория и политика. – М.: ЮНИТИ, 199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ая пери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and Interregional Econom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ино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ey of the World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9 th 1992, p.6,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9-1986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88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428-14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rends. Munch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б.: Петрополис.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olitic. №7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50-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гин, М.Г. (ред.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ктика глобализации: игры и правила новой эпо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ва: ИНФРА-М. 2000. Глава 1.Увлекательная жизнь технологий: информационная революция. Сс. 4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кин, А.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обализация: процесс и осмы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: Логос. 2001. С. 160-1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rstadt, Nicholas. The Population Implos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ign Poli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rch/April 2001, p. 42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86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66304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, Канада, ФР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пония, Итал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 Ближнего востока, Латинской Америки, Африки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щие продажу  нефти и газа в основном промышленно развитым странам. А также  такие промышленно развитые страны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вец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д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добывают в большом количестве различные минеральные ресурсы (уголь, руды черных и цветных металлов, золото, серебро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0778995213018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шняя и мировая торгов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язи с кредитованием внешней торгов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зультате движения ссудного капитала в рамках мирового ры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- 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вязи с поведением международных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866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жбанковские расчеты то торговле ценными бума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 вывоз капи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уж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3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Ценообразование в международной торговл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8028000" y="3429000"/>
            <a:ext cx="3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дущей страной в мировом хозяйств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дним из крупнейших по территории и населению государством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1,7% населения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ая торгов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lagkanad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4171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Э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ю производительности, рациональному использованию ресурсов, финансовой стабильности и неуклонному повышению уровня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е зай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аются по свое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мышленности, на транспорте, в сельском хозяй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егулирование МЭО, в том числе валютно-кредитных  и  финанс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ъезд из страны)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ъезд в стран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вижение лиц наемного труда через государственные границы в поисках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игранто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при въезде в другую страну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нт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то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квалифицированной рабоч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яются в США из латиноамериканских стран – Мексики, стран Карибского бассе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мигрируют  практически из всех стран мира , включая Западную Европу, Латинскую Америку, Россию, Инд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егальная иммиг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ин лиш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едеральный бюджет страны превосходит размеры ВВП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всех государств мира, кроме Японии и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т природоохранных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ляет более 700 млрд. долл., и постоянно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счезновении главного стратегического противника и отступлении угрозы глобальной войн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храняется опасность локальных войн 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мотря на известные достижения в смягчении расовой проблемы, ее острота велика особенно потому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расовые различия в большой мере совпадают с различиями в эко­номическом и социальном стат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0:05:57Z</dcterms:created>
  <dc:creator>User</dc:creator>
  <dc:description/>
  <dc:language>en-US</dc:language>
  <cp:lastModifiedBy>LEGION</cp:lastModifiedBy>
  <dcterms:modified xsi:type="dcterms:W3CDTF">2016-01-05T11:05:27Z</dcterms:modified>
  <cp:revision>17</cp:revision>
  <dc:subject/>
  <dc:title>Владивостокский Государственный Университет Экономики и Сервиса Институт Международных Отношений и Социальных Технологий Кафедра Международных Отношений и Зарубежного регионоведения Учебная презентация по курсу «Международные экономические отношения США</dc:title>
</cp:coreProperties>
</file>